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3D40-7B9F-483F-A741-8CA8BD2A8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6A78-C80D-44A5-A48C-4DC66DB33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5925-371B-43FD-A905-C560F6C1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B176-E2A5-4F91-B747-A4FBD8F6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5072A-68AF-4143-8D06-EABD8A5A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397E7E-AC91-41CF-9D39-BC3B1646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90D853-72B5-4A78-9A48-428E5873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8B5ADD-C771-46BF-80C7-601C2D6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E21CC0-2217-46C5-82F2-6CD89A0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2E093D-E9F2-4AA2-A119-B7B7F80F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6309DF-2424-4A60-8A63-275DA4F3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405987-F48B-409B-924B-25CE6A79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EE283-00EF-4C60-A5D2-0D1A0118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083A4-B34A-43E7-9A58-95866937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D4E8-CFD0-4649-BA59-4B6C7D2D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46194-AB70-45F0-B5C3-09B7AFE6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58999-D7EE-478C-BF15-58F0F044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1332D-4B2C-42AA-884A-469209FE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7F76C-0EA9-43F3-8FB0-D7BD065A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9C076-E65E-475E-8935-70541545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999D0-2A83-45E7-B24A-E6753DF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96082-A639-4B94-A504-7ABE2B1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FE979-000E-4633-A402-B86C91F2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D1A96-1F37-4252-B5B4-43B6F3A3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CACD0-B036-4973-9C5F-143BA138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E516-99F0-4301-9701-776A433B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425ED-5598-4499-A825-416F04A7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B38A8-EEF3-4063-836E-3481153C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24C2B-999C-4BED-866A-51BFF647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8551E-7E9C-4439-801F-6EBF8A7D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C0458-7FF6-440F-B304-C5492151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A2C13-E900-4D5C-8680-7477290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6C8BC-91B6-4B01-9F38-01A2FCAA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7CDD3-643B-430F-8176-B089564C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FDD94-240C-4FDC-B0CA-2A5EBDC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BE7D3-1022-407D-8727-7B7EBFED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B790B-1427-4130-9EE4-BE395F454AB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3BC2E-ED3B-4ACD-8535-3101543F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43C31-6FD7-4754-9FBA-EE29FA77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542F8-9C42-451D-B50C-0BA8B92B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BE78F2-2797-40CC-86FE-771980EC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5E1B23-D69A-4752-BD64-9F50C279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C4DE10-9D22-4EA0-8A00-1B336191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7F24E7-ED8B-496B-981A-B544ADB2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58885E-B802-4680-B148-87F2DA92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FB773E-2226-4DAC-A615-77A5D474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92ED77-31FA-4D4D-B1D9-C3DF1DD5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060A7-9884-449D-ADFD-E1F35305B0E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C76B95-561C-41E2-AF06-E4C57ABE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9BB122-C642-4963-B1DB-528EC131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04601E-CEBE-480A-8E46-C0334D24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A742A7-CE73-45C3-852F-0E30537C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3094CC-F42F-407D-9916-D76CC6C6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C835F-D914-405F-9FFA-5C0A1270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4326C-8640-4B62-9025-D38D090C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A99C7-FBF2-44FD-8FC1-ED1955ED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6BF4E-966B-4529-B537-6116EA05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7C53D-65DF-4B3D-B4C2-E1FA1E3E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2733E-3E4A-49FC-8C51-CC0A013A540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D9534-91B6-4AFD-80E0-F624DFA9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AF8B7-0292-44B2-96C3-DBEDE234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FD03A-29B9-4BED-B6FB-37DAF58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57729-5A03-464F-B237-B2BF768C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B8F2B-80B3-4C74-9B45-DA609C8C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A1506-C6DF-4A12-B42B-B1CAFD1F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B564A-AEC2-4D7C-A70F-7A7820ED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D72102-839E-49CB-91B2-FF16223A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48DFA9-F261-4852-A65F-58B09D73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7BA28D-280B-48E8-9B4A-8241B44D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470F-345E-4A12-A48A-62FEBBA4FBE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BF9B5A-05D7-4F93-9D97-DE6AD2C6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8DDBC9-B628-42F7-AF97-4C1929D6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905399-31AF-4E31-9A78-DE2FE9FD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078C37-93AF-4AA4-92A4-D754012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AFA6F5-AC48-4C53-B8FC-DE93F41C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830B37-D8DD-4E04-9F70-66B07B62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0914D7-5526-447A-BDD1-504DFB34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789879-B854-4181-AF78-B618BB7A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107C02-B551-4609-829A-B87DF536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A00BE5-2851-45DC-A972-9808FA60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B8954-EAF1-4886-8162-BF83AA3133B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D985EA-6723-4288-B238-7F3484A9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B5C0D3-ACCD-49F9-B452-92934870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9E4D06-B6EC-4C11-8F76-95EF3E4E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190A54-EEA6-45AC-8CFD-F80D6C9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5E1DAB-9770-40B5-9353-BD1C3469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3C53F9-5C20-4EA7-A556-25B70FB7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4E6D9A-5504-4583-BAAD-8A69255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FB52D2-0801-49ED-92A2-1A37E36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C4C886-49EC-405F-9542-E51ACA9D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A1CD90-2775-4DE0-BF59-98387389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CF114-60C8-41CD-B6DD-C2595436F8F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6816EF-99C3-4882-B089-72DC8190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9E4F20-A086-4E2E-9844-2F3A136C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F9E781-FE0D-4BBF-A8F7-3B8F2D1B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361BD5-11BC-4250-9AA6-907B2186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812B65-6A3C-4D5B-9C9B-ECE8C394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A54B89-7973-4803-AF9A-6CCDD041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B8B016-64B6-495E-819F-E56B8639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CCC316-9968-449B-9D6E-4087822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B2D931-7FDD-4BE4-ADCA-F775C0C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29999C-BA05-4C4F-97E0-BAA683FF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232BD-220E-4603-B859-92A37C7D41D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56B47C-FFC9-4A26-B11C-DFCB879D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C022BC-FB03-4A92-9ADE-26FE8EB1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E3AAF7-D477-4668-AC27-BFFD5915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56DCFC-B2DD-4299-8A16-73B66C22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284C6A-AAEA-4105-BC3A-5584FCDF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3B5D0D-8512-46DB-B9BC-A542C5D3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F3069E-CC1F-44FD-8952-93B14F2B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6CBA0B-0831-4C0F-83A7-47D91802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F22DDB-0956-4528-8BF2-6B52FB17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3BD02A-EAAB-4050-8655-771C609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B0DB-E454-42F5-B06C-35B7FC73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06C6D-D65E-436E-B39C-9DE689F62CC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FBB5CD-46BB-4C49-98A5-E9738C03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01835C-8881-426C-9257-A962D7B9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C71428-6617-4082-92B6-8CB190E9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2F0197-E16D-4CE1-BC28-CB1D633D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498DF8-5FB5-4E51-8439-0E81571A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01F51-6373-47A3-AD38-7069310239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6E217-1F73-47A3-8C17-51805BAC21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D238D-C758-4052-9EC5-2339CD4CC1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44C61-D61F-4D34-8B37-94297EB9CB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A9252-5002-4568-8D7C-B9B5416E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C7B29-E6F5-4FF9-B4D8-6FA6768E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D912C-2DCA-4EB8-896A-B0039F03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38DE2-3246-429D-BADE-8DCF24B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F2DDD-F9AA-47B4-929B-C328F8EB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164F-B557-4FD2-960D-B2D0F4CA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12C37-36B3-4C8B-95DE-7687AF7B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68454-A777-49BB-82F2-8D3B9F2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E6B16-C840-4376-B153-4DB31944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7BD80-DE40-4BC5-ACE8-2C54737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92C7D-7A6F-4ABA-9C70-B84D8E38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33F16-A743-4BE8-88B5-222C5476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FFC73-5DD5-49A1-B341-0405BECF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87F6-3F5D-43D6-8A6A-9FB0BF7EC7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5BF1-182A-415F-ADAA-C50D65BDB1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400C-88B4-49AC-93DD-7E74377A6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FEFC-C0F9-430D-8108-E4462DCB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468D0-FB01-4836-81D1-0B00BA0393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4552-836B-429B-9E86-39556A5F64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2D41-C7CD-46ED-95B3-E642448D47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D6C1-2ACC-4553-A99C-DF7DC26C3D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A8362-7AAE-4073-A230-3662118A10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8D6D-9C33-47FB-A809-2EA57667A9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0E3E-CC62-4A4B-9A03-C7580E44E9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8F16-863F-4718-8E6E-80B1CFA455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F6DD-02D2-442F-A384-61F5B22692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717A-1188-4BE6-92C3-D39F7269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AA91-71FB-494B-B92C-1A2A4A68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23B77-793F-4632-B9EA-26FE401C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EDE92-8353-43E9-ACF3-2053D28E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F770C-4157-4E3C-992A-3F41B935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F789A-C275-41C1-A259-A4D263A3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49AB5-0877-4D6E-8A67-91F67475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31CD8-AAD5-44B2-BADB-ADD13D93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762A2-F61C-4FB8-ADD0-659A92D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87FCB-28FD-4580-8EEE-6ECAE62F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3BBCC-F971-497A-9A5A-18F2285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2016-5D61-4749-8A78-B803E25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7675F-9273-48F2-A94F-59DAE071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C229B-7C4F-414F-BC3C-5E7D666E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90CC6-3EF2-4BF2-89C8-1494B942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053FB-8B1C-4F75-A617-4582DEE92C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830560-F6E3-4BFD-9FC0-0141E4DDDA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A6F9CB-86FC-41ED-8FBB-2FD9D881EA6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AC89A0-4AA2-4C1B-A714-BD91E0C7DFC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E1D4F2-4F25-4F0D-A592-FF7194252B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BA9507-A05D-4D0E-9CFB-D66C610A28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61C3C6-B9B9-4BA4-A8D9-883645FD3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9464-7948-4241-8E56-D36B10EA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DA15B6-3334-4297-A69A-BFC59B0E85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DA178F-25BC-4896-84C1-2B62F9041BC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8588F7-6F48-456B-8A41-0CA9052195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275D13-EDEA-4C9A-898F-B981D752D4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91FF6D-39A3-4338-BBA0-CC914EA47F4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79C0BC-9706-4BAA-B604-10C938D6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1ACBAE-64F4-4AAC-956A-592AB9C2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D31B59-D015-4792-8462-0C6258D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372C18-0AE0-4086-A9EF-440D2D4E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117740-032A-4A3F-BF9A-B94DDFFE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367F-DB57-4ED3-B3FB-2560D00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FB484C-590B-4F4E-B65B-66803C51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AB95FB-A9D3-400F-9868-723B193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97E2CA-160D-47EF-8501-D83CB440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FC9B78-532A-4385-AC61-9C68B6E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44379F-2E80-4247-8238-F86DED8E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DB4DC4-9B0D-4E31-973F-082B4415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1CDDAF-607B-4481-ABF5-506B66AF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8B2F04-E53F-4C23-887F-A801CBC5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30EB67-E1B6-4F5F-8B20-A6D3D8F0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3D9222-33BC-4CFB-9AB6-E82A6A71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53D-E762-48BE-BAA7-8261665F2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FF32-419D-4955-B5B0-9B6B1847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73C7-BDF9-41BA-A548-D14F76204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E21D-16ED-4637-8930-654341169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0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1134-7850-48A6-A1E2-1521A50B2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FDFC-01C3-4D85-8616-F3EF34EE4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6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78C-FD57-4FB7-8D25-B4C7F8560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9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788-FED0-4B30-839E-0888AD9C0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42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864D-EAC6-4104-8836-D6C40AD39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5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364B-6E2F-4496-B927-EEDC4F796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00CC-F42A-41E9-A5FC-40225D5AF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8061-3F15-442D-BD4B-C8266960A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9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40C0-244F-4E46-8D24-7DD0A1936664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097E-30FC-4A20-9170-C29AA61B3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5"/>
          </p:nvPr>
        </p:nvSpPr>
        <p:spPr>
          <a:xfrm>
            <a:off x="456840" y="6276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1291-85B1-4618-81E6-41BE6800D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8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FA95-C6B4-4EF0-8AA6-5B43DBAAC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1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AA2C-314E-4947-9F9E-C90AF8577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Usage.Req@centerpointenergy.com" TargetMode="External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621-A808-4F71-9C7B-3917898A4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April 4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04920" y="96192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Transition Planning for LPGRR068, Add BUSLRG and BUSLRGDG Profil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1199"/>
              </a:spcAft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To allow for market readiness, implementation to occur no earlier than February 1,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1199"/>
              </a:spcAft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SMT impacts of new BUSLRG and BUSLRGDG profiles are being evaluated.  Working closely in coordination with JDOA and SMT on impact assess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1199"/>
              </a:spcAft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Potential AMS/IDR Workshop in Fall of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1199"/>
              </a:spcAft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TDSPs have provided updates to the AMS/IDR Matrix on transition planning and data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4DAE-41D3-4AF0-BBF5-CB0794194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AMS/IDR Matrix Update Question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63DD-6E28-4E20-9DF8-28BB676C6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457200" y="1600200"/>
          <a:ext cx="8381880" cy="3881520"/>
        </p:xfrm>
        <a:graphic>
          <a:graphicData uri="http://schemas.openxmlformats.org/drawingml/2006/table">
            <a:tbl>
              <a:tblPr/>
              <a:tblGrid>
                <a:gridCol w="2289240"/>
                <a:gridCol w="1849320"/>
                <a:gridCol w="2216160"/>
                <a:gridCol w="2027160"/>
              </a:tblGrid>
              <a:tr h="68436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Transition Plan to move existing eligible BUSHI/MED/LO/IDRRQ to BUSLRG profile once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N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685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or plans to transition all applicable BUSIDRRQ to a respective BUSHI/MED/LO profile during 202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BUSLRG is available all respective ESIs will transition to BUSLRG within 1-2 meter cycles on cycle d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cable at this time due to billing determinant requi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 to BUSLRG availability, AEP will transition BUSIDRRQ to applicable BUSHI/MED/LO load profile based on the LPG Profile Decision Tre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BUSLRG is available all respective ESIs will transition to BUSLRG within 1-2 meter cycles on the cycle dat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MP does not plan to transition to BUSHI/MED/LO profiles and will transition from BUSIDRRQ to BUSLRG within 1-2 meter cycles on cycle d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AMS/IDR Matrix Update Question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E15B-BECD-4772-95E3-44F5FBD27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36600" y="1146240"/>
          <a:ext cx="8381880" cy="5114880"/>
        </p:xfrm>
        <a:graphic>
          <a:graphicData uri="http://schemas.openxmlformats.org/drawingml/2006/table">
            <a:tbl>
              <a:tblPr/>
              <a:tblGrid>
                <a:gridCol w="1949400"/>
                <a:gridCol w="2286000"/>
                <a:gridCol w="2119320"/>
                <a:gridCol w="2027160"/>
              </a:tblGrid>
              <a:tr h="86508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CCESS TO INTERVAL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 of Record/Non-REP of Record/3rd parties–registered brokers/aggreg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N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90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nal project to allow all parties access to BUSLRG profiled ESIs interval data via CR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 non-ROR, LOA is required for authorization to download da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cor project is planned for an EOY (2021) implement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isting process will continue:  email requests to </a:t>
                      </a:r>
                      <a:r>
                        <a:rPr b="0" lang="en-US" sz="1300" spc="-1" strike="noStrike" u="sng">
                          <a:solidFill>
                            <a:srgbClr val="009999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Usage.Req@centerpointenergy.c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A remains a requirement for authorization to access data for non-ROR reque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 Non-ROR &amp; 3</a:t>
                      </a:r>
                      <a:r>
                        <a:rPr b="0" lang="en-US" sz="13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d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Parties: IDR interval data is available via AEP Usage Hub (Non-Residential Historical Usage Portal) utilizing electronic LOA request metho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 ROR: IDR interval data is available via 867_03IDR transaction and AEP Usage Hub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 Non-ROR &amp; 3</a:t>
                      </a:r>
                      <a:r>
                        <a:rPr b="0" lang="en-US" sz="13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d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Parties, interval data will be available through TNMP portal utilizing electronic LOA metho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 ROR, interval data will be made available through TNMP portal and 867_03 transactio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ardless of meter type (AMS or IDR), interval data will be provided via Por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A remains a requirement for authorization to access data for non-ROR reque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1 RES Annu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CAD3-8021-47BD-9A87-DDEDA9DC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4" descr=""/>
          <p:cNvPicPr/>
          <p:nvPr/>
        </p:nvPicPr>
        <p:blipFill>
          <a:blip r:embed="rId1"/>
          <a:stretch/>
        </p:blipFill>
        <p:spPr>
          <a:xfrm>
            <a:off x="457200" y="1370160"/>
            <a:ext cx="8229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1 BUS Annu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F5B9-0B37-4E34-9820-D93774A13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1"/>
          <a:stretch/>
        </p:blipFill>
        <p:spPr>
          <a:xfrm>
            <a:off x="181080" y="990720"/>
            <a:ext cx="8781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2147-AA28-466E-A43E-56519C764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380880" y="1066680"/>
            <a:ext cx="8610840" cy="53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May 12, 2021 @ 9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4171"/>
                </a:solidFill>
                <a:uFillTx/>
                <a:latin typeface="Arial"/>
              </a:rPr>
              <a:t>Agenda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Annual Validation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Items related to LPGRR068, </a:t>
            </a:r>
            <a:r>
              <a:rPr b="0" i="1" lang="en-US" sz="1800" spc="-1" strike="noStrike">
                <a:solidFill>
                  <a:srgbClr val="294171"/>
                </a:solidFill>
                <a:latin typeface="Arial"/>
              </a:rPr>
              <a:t>Add BUSLRG and BUSLRGDG Profil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SMT 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Future Market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2020 UFE Analysis Repor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61"/>
          <p:cNvSpPr/>
          <p:nvPr/>
        </p:nvSpPr>
        <p:spPr>
          <a:xfrm>
            <a:off x="380880" y="56577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1-04-13T15:42:42Z</dcterms:modified>
  <cp:revision>1358</cp:revision>
  <dc:subject/>
  <dc:title>Instructions</dc:title>
</cp:coreProperties>
</file>